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8C0-86CC-4951-B95E-89D28D17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F90-8256-428E-BE41-736B8FE0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ABE-9C31-4530-810B-4049B9F4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EBA-43A7-4CBC-A059-504A2B93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AED-1D0E-45DB-B952-F7C7CF21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C1F-08D5-48B8-A885-41240728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F7F-8262-4D9C-96C3-5495A164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B98-88FE-4498-8B99-0947AD24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602-373A-4FAB-8955-3A16193E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7DE-D0E6-4486-AC29-6B7CB6E6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74D-C18A-4263-A5D5-261337E0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0DC-0209-4924-8884-FCFCCE4E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BBD8-AA26-4486-A9AA-A5B2215CFC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Chapter 6- Trends Related to Fertility and Fecun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340000" y="2004840"/>
            <a:ext cx="662472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rends in Developed and Developing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6948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rends in Developed and Developing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6948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rends in Developed and Developing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aths now outnumber bir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ross Canada only NWT and Nunavut show birth rates above the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placement level - # of births required to maintain a                     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tabl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se Study Pg 177-1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s # 1,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Chapter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y the end of the chapter, you would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Demonstrate and understanding of the relationship between fecundity and culture (age at marriage, average # of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lain the physiological impact of the choice of whether or not to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uate the social impact of current birth patterns on Canadian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6.1 Setting the Stage: World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9 B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rth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pulation rates now 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omen having fewe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pulation itself is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Setting the Stage: World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veloped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alling Bir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95% of world population growth is happening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Setting the Stage: World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Setting the Stage: World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324000" y="1523880"/>
            <a:ext cx="8362800" cy="4602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0" y="3933720"/>
            <a:ext cx="414036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859280" y="3500280"/>
            <a:ext cx="4284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Setting the Stage: World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ual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ecun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ility to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rends in Developed and Developing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ed world’s population is shr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f the developed nations, only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replacing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pulation through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vels of immigration and fer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268360" y="3429000"/>
            <a:ext cx="197676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rends in Developed and Developing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place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6875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Jason</cp:lastModifiedBy>
  <dcterms:modified xsi:type="dcterms:W3CDTF">2011-01-04T14:31:21Z</dcterms:modified>
  <cp:revision>22</cp:revision>
  <dc:subject/>
  <dc:title>Diapositiva 1</dc:title>
</cp:coreProperties>
</file>